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1F4-AAA1-4AFE-9C25-3B784D5C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CCC-E57B-4CB5-ABA3-256134BB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B25-3CAF-41D6-AF1D-471D489D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A43-EB5F-4380-8381-F355EF9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285-76C6-492C-A4B7-11B5051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97C-F63C-46FF-BAF3-DF663EA1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CD7-40C4-4687-9317-1943EB0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C67-6547-4BEC-BDB0-8E0C1780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7B8-CAC9-42F9-ADD3-282B351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04F-E775-45DF-BF2B-0F3099C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24B-24C4-4B6F-8F97-562E0CE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EB1-8923-4B38-B0A8-242D37F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1D08-A3BA-439C-B116-1D50D035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haping Medieval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wn air makes one fr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 Medieval Art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mon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y and th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s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thi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rev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ev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B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83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logna –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is – arts and th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s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Abel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mas Aqu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nd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owu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ng of R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te and Cha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an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ne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na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oubad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Art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vine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nterbury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romanesque"/>
          <p:cNvPicPr/>
          <p:nvPr/>
        </p:nvPicPr>
        <p:blipFill>
          <a:blip r:embed="rId1"/>
          <a:stretch/>
        </p:blipFill>
        <p:spPr>
          <a:xfrm>
            <a:off x="685800" y="838080"/>
            <a:ext cx="2975040" cy="335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jansen"/>
          <p:cNvPicPr/>
          <p:nvPr/>
        </p:nvPicPr>
        <p:blipFill>
          <a:blip r:embed="rId2"/>
          <a:stretch/>
        </p:blipFill>
        <p:spPr>
          <a:xfrm>
            <a:off x="5334120" y="1219320"/>
            <a:ext cx="2868480" cy="419076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>
            <a:off x="457200" y="4429080"/>
            <a:ext cx="51055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Romanesqu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lide3d"/>
          <p:cNvPicPr/>
          <p:nvPr/>
        </p:nvPicPr>
        <p:blipFill>
          <a:blip r:embed="rId1"/>
          <a:stretch/>
        </p:blipFill>
        <p:spPr>
          <a:xfrm>
            <a:off x="380880" y="228600"/>
            <a:ext cx="4326120" cy="635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hapelle08"/>
          <p:cNvPicPr/>
          <p:nvPr/>
        </p:nvPicPr>
        <p:blipFill>
          <a:blip r:embed="rId2"/>
          <a:stretch/>
        </p:blipFill>
        <p:spPr>
          <a:xfrm>
            <a:off x="4495680" y="685800"/>
            <a:ext cx="4400640" cy="313056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4419720" y="3276720"/>
            <a:ext cx="4190760" cy="32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Gothi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380880" y="4572000"/>
            <a:ext cx="3962520" cy="2057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ence of National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Between France an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nqui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pain and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unity in Italy and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ugal, Castile, A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rdinand and Is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p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eror Maximil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257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ndred Years’ War (1337-14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in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an of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l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rks and Lanc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dor 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Longbow%20004"/>
          <p:cNvPicPr/>
          <p:nvPr/>
        </p:nvPicPr>
        <p:blipFill>
          <a:blip r:embed="rId1"/>
          <a:stretch/>
        </p:blipFill>
        <p:spPr>
          <a:xfrm>
            <a:off x="155520" y="46080"/>
            <a:ext cx="365148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.  Decline of the Roman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l Hum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l Ex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l Sc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back to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gnon elects new p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of Constance 1414-1418 chooses 1 p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to national 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ye of the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ly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iface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learner.org/interactives/renaissance/middleages.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4:06:33Z</dcterms:created>
  <dc:creator>Jennifer Simonds</dc:creator>
  <dc:description/>
  <dc:language>en-US</dc:language>
  <cp:lastModifiedBy>Rebecca Lopez</cp:lastModifiedBy>
  <dcterms:modified xsi:type="dcterms:W3CDTF">2016-02-26T09:14:48Z</dcterms:modified>
  <cp:revision>9</cp:revision>
  <dc:subject/>
  <dc:title>Chapter 9 Reshaping Medieval Europe</dc:title>
</cp:coreProperties>
</file>